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27.wmf" ContentType="image/x-wmf"/>
  <Override PartName="/ppt/media/image16.png" ContentType="image/png"/>
  <Override PartName="/ppt/media/chimes.wav" ContentType="audio/x-wav"/>
  <Override PartName="/ppt/media/image17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008813" cy="9294813"/>
  <p:custShowLst>
    <p:custShow name="Custom Show 1" id="0">
      <p:sldLst>
        <p:sld r:id="rId15"/>
        <p:sld r:id="rId17"/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20F-B003-4531-9824-36E15EEA2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04B1-9F50-4DBB-AD2D-3BEA18C5C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7806-23AD-4E0C-A11F-4DC705A3E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ple matching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6EF1-82FA-4D34-9318-B1159503A8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pils note difference between me duele and me duelen, and complete a simple matching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F76-4CB2-4FBC-A4A1-DC9EAA5C1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imulus for writing, now including both me duele and me due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23D2-9E2C-4367-A6C1-60773393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6D2-D876-4DC7-AFB5-50DAB9D505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677-6E59-4DB4-AB2B-5A812B62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542-AE43-4CF1-A39A-25FB17C9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99C-C2BE-4B70-8F8A-13401ECA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1BB-6EBD-4546-9D3C-38E90B36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A114-66EA-4B89-AE8C-6167D6B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DAB6-4F0B-4E4D-A46C-EF6C972D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F480-53CA-4DBA-9C81-D14F72A9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771C-1F73-49D1-B4C1-181BC35E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221-3CA6-4E73-BB44-0A0E278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E30-5A13-4194-863E-BF7A1CF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CDB1-9DC0-4AFB-B387-3E8E17B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406-BCFD-456F-86F0-5F8D49D2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669D-E39A-4A5F-9BC4-885AB68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185F-13E4-4EDB-91A0-A1DBE43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C366-E410-4A53-B49C-FF8B5A34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022F-0F34-49A1-BAFB-F5989B4C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E94F-FC99-4399-AFED-9EAA794D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3750-5EAF-4410-BECE-E8F14CE6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3ED6-B5C2-4A19-917D-7C290145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0A5E-3F99-4948-BD33-B4937EA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C799-F3FF-4FE9-8D3B-FC7BCE3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3FF9-2C42-45DF-B13E-EBAD60F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C83-C882-4F67-B077-6798339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2E69-C931-47CE-91EF-97D78CC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1795-BE5C-41A1-BAD3-C9D21C6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5A0E-79DB-4087-9D0A-C4CFC9A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73C5-05B1-47D7-8F8C-AFFC720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F947-D865-41B5-A7D1-97400706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50DF-A2F8-4D60-ABD6-3C5E7D07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0CA1-0B6D-42BE-B114-C0FCDA5A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7043-1FF9-4B00-B6C9-EC2813B5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7299-027F-40AC-B189-EF90AA9F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1424-23BA-40FB-8862-C789E53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4E6-DF65-4970-A1E2-6F4D6DA5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B72B-64C7-4737-81F9-34D28BD6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C70C-63A9-49D5-823F-ACF99694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6B0F-5DFC-4266-8389-BEA1DED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6A44-A782-45E4-AF29-EC9098B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E0F7-FCBB-451B-96A6-7BD4E0A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E708-B571-4822-BF14-D3FDE7E2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9361-465B-4F5D-B005-583C833F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E7F6-192F-4FD5-B1E4-B2E93B78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96A1-9E68-4FCE-9F0A-F1739A18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27FD1-8DB6-4E77-AA43-44E8B5D5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BED-5429-4977-9956-90B9A11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073F9-86CB-4992-BB6E-2809F91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182F-C791-4AAB-A0BD-9E9A202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A483-F1F1-46A0-B8D3-C087B87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3F2E-BC26-410C-B5FA-B8A86D9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A119-ECCE-4D8D-ADD6-645F673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53BF-373A-4641-B5B9-91A60F9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02F4-40B5-43E6-AF21-3D244BD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C16D-EAA5-4D60-B791-3A9F6AF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AE66-9E00-47E2-806D-96EE65F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E09D-5119-4A82-A2AE-4374ECF7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253-5A05-4881-93D8-0B2BDA5C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A340-9969-41C1-A992-D223E7B7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D4C-549B-492F-B215-76E87FC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6DA-A9E0-4408-92CE-927C15D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2D7-0AAD-4AFF-82BD-49C9A4F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4E1-CE05-4C3E-8128-33C692F1F3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C73A-07E0-4957-9E64-28764BABB2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F4F3-95E1-41BC-8780-A582E56664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663-8B23-4BD6-A421-5C46DE441C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A3E9-ECCA-4721-8135-A1483537ED9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image" Target="../media/image3.png"/><Relationship Id="rId12" Type="http://schemas.openxmlformats.org/officeDocument/2006/relationships/image" Target="../media/image4.wmf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wmf"/><Relationship Id="rId21" Type="http://schemas.openxmlformats.org/officeDocument/2006/relationships/image" Target="../media/image28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3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47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Text Box 24"/>
          <p:cNvSpPr/>
          <p:nvPr/>
        </p:nvSpPr>
        <p:spPr>
          <a:xfrm>
            <a:off x="1005120" y="1482840"/>
            <a:ext cx="62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ja-JP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Dol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e)</a:t>
            </a:r>
            <a:r>
              <a:rPr b="0" lang="ja-JP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896040" y="3564000"/>
            <a:ext cx="798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dol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hurt/painful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3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43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3083400" y="1935000"/>
            <a:ext cx="40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head hurts (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25"/>
          <p:cNvSpPr/>
          <p:nvPr/>
        </p:nvSpPr>
        <p:spPr>
          <a:xfrm>
            <a:off x="914400" y="4114800"/>
            <a:ext cx="23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mí)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26"/>
          <p:cNvSpPr/>
          <p:nvPr/>
        </p:nvSpPr>
        <p:spPr>
          <a:xfrm>
            <a:off x="2943360" y="411480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261680" y="411480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28"/>
          <p:cNvSpPr/>
          <p:nvPr/>
        </p:nvSpPr>
        <p:spPr>
          <a:xfrm>
            <a:off x="4856760" y="411480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Straight Arrow Connector 30"/>
          <p:cNvCxnSpPr/>
          <p:nvPr/>
        </p:nvCxnSpPr>
        <p:spPr>
          <a:xfrm flipH="1" flipV="1">
            <a:off x="4494960" y="2590200"/>
            <a:ext cx="686520" cy="15246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60" name="Straight Arrow Connector 33"/>
          <p:cNvCxnSpPr>
            <a:endCxn id="454" idx="2"/>
          </p:cNvCxnSpPr>
          <p:nvPr/>
        </p:nvCxnSpPr>
        <p:spPr>
          <a:xfrm flipV="1">
            <a:off x="3886200" y="2514240"/>
            <a:ext cx="1202040" cy="1519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61" name="Straight Arrow Connector 37"/>
          <p:cNvCxnSpPr/>
          <p:nvPr/>
        </p:nvCxnSpPr>
        <p:spPr>
          <a:xfrm flipV="1">
            <a:off x="2514240" y="2590200"/>
            <a:ext cx="3506040" cy="1600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med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6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74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Text Box 24"/>
          <p:cNvSpPr/>
          <p:nvPr/>
        </p:nvSpPr>
        <p:spPr>
          <a:xfrm>
            <a:off x="1828800" y="45720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9"/>
          <p:cNvSpPr/>
          <p:nvPr/>
        </p:nvSpPr>
        <p:spPr>
          <a:xfrm>
            <a:off x="3033000" y="198108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our arm hu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26"/>
          <p:cNvSpPr/>
          <p:nvPr/>
        </p:nvSpPr>
        <p:spPr>
          <a:xfrm>
            <a:off x="1491840" y="32004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ti) 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27"/>
          <p:cNvSpPr/>
          <p:nvPr/>
        </p:nvSpPr>
        <p:spPr>
          <a:xfrm>
            <a:off x="3164040" y="320040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28"/>
          <p:cNvSpPr/>
          <p:nvPr/>
        </p:nvSpPr>
        <p:spPr>
          <a:xfrm>
            <a:off x="4497120" y="32004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br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9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01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321120" y="26668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legs 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25"/>
          <p:cNvSpPr/>
          <p:nvPr/>
        </p:nvSpPr>
        <p:spPr>
          <a:xfrm>
            <a:off x="13320" y="358128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nosotros) 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26"/>
          <p:cNvSpPr/>
          <p:nvPr/>
        </p:nvSpPr>
        <p:spPr>
          <a:xfrm>
            <a:off x="3595680" y="3606840"/>
            <a:ext cx="14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5221440" y="360684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 pi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51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Object 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28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5"/>
          <p:cNvSpPr/>
          <p:nvPr/>
        </p:nvSpPr>
        <p:spPr>
          <a:xfrm>
            <a:off x="255240" y="20574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ankle hu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25"/>
          <p:cNvSpPr/>
          <p:nvPr/>
        </p:nvSpPr>
        <p:spPr>
          <a:xfrm>
            <a:off x="989640" y="2743200"/>
            <a:ext cx="211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ella )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3164040" y="274320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4504680" y="27432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tobi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Object 2"/>
          <p:cNvGraphicFramePr/>
          <p:nvPr/>
        </p:nvGraphicFramePr>
        <p:xfrm>
          <a:off x="684360" y="838080"/>
          <a:ext cx="24238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8080"/>
                    <a:ext cx="2423880" cy="554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9e5d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45" name="Text Box 3"/>
          <p:cNvSpPr/>
          <p:nvPr/>
        </p:nvSpPr>
        <p:spPr>
          <a:xfrm>
            <a:off x="5508720" y="115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¿Qué te du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495680" y="121932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pi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4495680" y="182880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garg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4495680" y="243828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495680" y="304812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cab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4495680" y="365760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</a:rPr>
              <a:t>Me duele el estóm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495680" y="426708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el br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10"/>
          <p:cNvSpPr/>
          <p:nvPr/>
        </p:nvSpPr>
        <p:spPr>
          <a:xfrm rot="16111800">
            <a:off x="1456920" y="4887720"/>
            <a:ext cx="15624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11"/>
          <p:cNvSpPr/>
          <p:nvPr/>
        </p:nvSpPr>
        <p:spPr>
          <a:xfrm>
            <a:off x="1835280" y="2087640"/>
            <a:ext cx="38088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2"/>
          <p:cNvSpPr/>
          <p:nvPr/>
        </p:nvSpPr>
        <p:spPr>
          <a:xfrm>
            <a:off x="1314360" y="3332160"/>
            <a:ext cx="30492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13"/>
          <p:cNvSpPr/>
          <p:nvPr/>
        </p:nvSpPr>
        <p:spPr>
          <a:xfrm>
            <a:off x="1919160" y="1038240"/>
            <a:ext cx="5335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14"/>
          <p:cNvSpPr/>
          <p:nvPr/>
        </p:nvSpPr>
        <p:spPr>
          <a:xfrm>
            <a:off x="1654200" y="2867040"/>
            <a:ext cx="6858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15"/>
          <p:cNvSpPr/>
          <p:nvPr/>
        </p:nvSpPr>
        <p:spPr>
          <a:xfrm rot="2205000">
            <a:off x="971280" y="2492280"/>
            <a:ext cx="228600" cy="7239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780480" y="96192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277440" y="193500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26520" y="236700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134520" y="285264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723240" y="351936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3061800" y="458136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2"/>
          <p:cNvSpPr/>
          <p:nvPr/>
        </p:nvSpPr>
        <p:spPr>
          <a:xfrm>
            <a:off x="1138320" y="1190520"/>
            <a:ext cx="83808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23"/>
          <p:cNvSpPr/>
          <p:nvPr/>
        </p:nvSpPr>
        <p:spPr>
          <a:xfrm>
            <a:off x="2108160" y="2163600"/>
            <a:ext cx="114300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24"/>
          <p:cNvSpPr/>
          <p:nvPr/>
        </p:nvSpPr>
        <p:spPr>
          <a:xfrm>
            <a:off x="684360" y="2708280"/>
            <a:ext cx="38088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2268360" y="3068640"/>
            <a:ext cx="83844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1085760" y="3747960"/>
            <a:ext cx="38124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2249640" y="4830840"/>
            <a:ext cx="76176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8092440" y="30481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8092440" y="182880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8092440" y="42670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8092440" y="365760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8092440" y="24382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8092440" y="12193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852480" y="836640"/>
          <a:ext cx="24242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836640"/>
                    <a:ext cx="2424240" cy="554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9e5d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78" name="Text Box 3"/>
          <p:cNvSpPr/>
          <p:nvPr/>
        </p:nvSpPr>
        <p:spPr>
          <a:xfrm>
            <a:off x="5479920" y="44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¿Qué te du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4191120" y="274320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os o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4191120" y="396252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as ore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191120" y="213372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as ma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4191120" y="335268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as pier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4191120" y="1523880"/>
            <a:ext cx="3673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os 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851760" y="78264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3566520" y="186372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3372840" y="344808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851760" y="517536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3372840" y="586728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4"/>
          <p:cNvSpPr/>
          <p:nvPr/>
        </p:nvSpPr>
        <p:spPr>
          <a:xfrm>
            <a:off x="1219320" y="838080"/>
            <a:ext cx="1049040" cy="646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1219320" y="838080"/>
            <a:ext cx="1265040" cy="574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>
            <a:off x="1979640" y="1700280"/>
            <a:ext cx="1517760" cy="3556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2627280" y="1557360"/>
            <a:ext cx="936720" cy="522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2843280" y="3357720"/>
            <a:ext cx="504720" cy="358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9"/>
          <p:cNvSpPr/>
          <p:nvPr/>
        </p:nvSpPr>
        <p:spPr>
          <a:xfrm>
            <a:off x="1692360" y="3716280"/>
            <a:ext cx="1655640" cy="17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20"/>
          <p:cNvSpPr/>
          <p:nvPr/>
        </p:nvSpPr>
        <p:spPr>
          <a:xfrm flipV="1">
            <a:off x="1187280" y="5157720"/>
            <a:ext cx="648000" cy="287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1187280" y="5300280"/>
            <a:ext cx="1152720" cy="14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22"/>
          <p:cNvSpPr/>
          <p:nvPr/>
        </p:nvSpPr>
        <p:spPr>
          <a:xfrm>
            <a:off x="2843280" y="6021360"/>
            <a:ext cx="504720" cy="14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23"/>
          <p:cNvSpPr/>
          <p:nvPr/>
        </p:nvSpPr>
        <p:spPr>
          <a:xfrm>
            <a:off x="1908000" y="6165720"/>
            <a:ext cx="1440000" cy="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7939800" y="274320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7939800" y="39625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7939800" y="21337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7939800" y="33526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8"/>
          <p:cNvSpPr/>
          <p:nvPr/>
        </p:nvSpPr>
        <p:spPr>
          <a:xfrm>
            <a:off x="7939800" y="15238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Quijote"/>
          <p:cNvPicPr/>
          <p:nvPr/>
        </p:nvPicPr>
        <p:blipFill>
          <a:blip r:embed="rId1"/>
          <a:stretch/>
        </p:blipFill>
        <p:spPr>
          <a:xfrm>
            <a:off x="4140360" y="0"/>
            <a:ext cx="3024000" cy="67150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4046400" y="137160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091280" y="45720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119480" y="49536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7143840" y="114300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924360" y="258300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4046400" y="342900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851280" y="447984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7164360" y="4724280"/>
            <a:ext cx="5763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7164360" y="220968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7143840" y="335268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3"/>
          <p:cNvSpPr/>
          <p:nvPr/>
        </p:nvSpPr>
        <p:spPr>
          <a:xfrm>
            <a:off x="5292720" y="2708280"/>
            <a:ext cx="75708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4"/>
          <p:cNvSpPr/>
          <p:nvPr/>
        </p:nvSpPr>
        <p:spPr>
          <a:xfrm>
            <a:off x="5651640" y="260280"/>
            <a:ext cx="53316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5"/>
          <p:cNvSpPr/>
          <p:nvPr/>
        </p:nvSpPr>
        <p:spPr>
          <a:xfrm rot="18333000">
            <a:off x="5740200" y="76500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6"/>
          <p:cNvSpPr/>
          <p:nvPr/>
        </p:nvSpPr>
        <p:spPr>
          <a:xfrm rot="865200">
            <a:off x="5995800" y="69228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7"/>
          <p:cNvSpPr/>
          <p:nvPr/>
        </p:nvSpPr>
        <p:spPr>
          <a:xfrm>
            <a:off x="5508720" y="161604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8"/>
          <p:cNvSpPr/>
          <p:nvPr/>
        </p:nvSpPr>
        <p:spPr>
          <a:xfrm>
            <a:off x="4284720" y="2276640"/>
            <a:ext cx="522360" cy="502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9"/>
          <p:cNvSpPr/>
          <p:nvPr/>
        </p:nvSpPr>
        <p:spPr>
          <a:xfrm rot="4314000">
            <a:off x="6287400" y="2781000"/>
            <a:ext cx="432000" cy="289080"/>
          </a:xfrm>
          <a:prstGeom prst="ellipse">
            <a:avLst/>
          </a:prstGeom>
          <a:solidFill>
            <a:srgbClr val="ffffcc">
              <a:alpha val="50000"/>
            </a:srgbClr>
          </a:solidFill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20"/>
          <p:cNvSpPr/>
          <p:nvPr/>
        </p:nvSpPr>
        <p:spPr>
          <a:xfrm>
            <a:off x="5130720" y="4437000"/>
            <a:ext cx="304920" cy="3603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21"/>
          <p:cNvSpPr/>
          <p:nvPr/>
        </p:nvSpPr>
        <p:spPr>
          <a:xfrm>
            <a:off x="5724360" y="4221000"/>
            <a:ext cx="432000" cy="18003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2"/>
          <p:cNvSpPr/>
          <p:nvPr/>
        </p:nvSpPr>
        <p:spPr>
          <a:xfrm>
            <a:off x="5275440" y="573408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23"/>
          <p:cNvSpPr/>
          <p:nvPr/>
        </p:nvSpPr>
        <p:spPr>
          <a:xfrm>
            <a:off x="5003640" y="6237360"/>
            <a:ext cx="519120" cy="3664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24"/>
          <p:cNvSpPr/>
          <p:nvPr/>
        </p:nvSpPr>
        <p:spPr>
          <a:xfrm>
            <a:off x="4859280" y="184464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25"/>
          <p:cNvSpPr/>
          <p:nvPr/>
        </p:nvSpPr>
        <p:spPr>
          <a:xfrm>
            <a:off x="4716360" y="3141720"/>
            <a:ext cx="503280" cy="6811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3851280" y="5867280"/>
            <a:ext cx="5763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7162920" y="6172200"/>
            <a:ext cx="5778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8"/>
          <p:cNvSpPr/>
          <p:nvPr/>
        </p:nvSpPr>
        <p:spPr>
          <a:xfrm>
            <a:off x="6156360" y="6021360"/>
            <a:ext cx="519120" cy="3603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9"/>
          <p:cNvSpPr/>
          <p:nvPr/>
        </p:nvSpPr>
        <p:spPr>
          <a:xfrm flipV="1">
            <a:off x="4500720" y="475920"/>
            <a:ext cx="1150920" cy="1443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0"/>
          <p:cNvSpPr/>
          <p:nvPr/>
        </p:nvSpPr>
        <p:spPr>
          <a:xfrm flipH="1">
            <a:off x="6156000" y="685800"/>
            <a:ext cx="934920" cy="7920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6012000" y="685800"/>
            <a:ext cx="1079280" cy="22212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32"/>
          <p:cNvSpPr/>
          <p:nvPr/>
        </p:nvSpPr>
        <p:spPr>
          <a:xfrm flipH="1">
            <a:off x="5724000" y="1371600"/>
            <a:ext cx="1443240" cy="32868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427640" y="1700280"/>
            <a:ext cx="576000" cy="28872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4716000" y="2438280"/>
            <a:ext cx="2451240" cy="5400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4284720" y="2924280"/>
            <a:ext cx="1150920" cy="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 flipV="1">
            <a:off x="4424400" y="3644640"/>
            <a:ext cx="434880" cy="8892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 flipV="1">
            <a:off x="6516720" y="2997000"/>
            <a:ext cx="650880" cy="5079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 flipH="1">
            <a:off x="6084720" y="4952880"/>
            <a:ext cx="1082880" cy="1317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 flipV="1">
            <a:off x="4229280" y="4653000"/>
            <a:ext cx="990360" cy="5544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V="1">
            <a:off x="4424400" y="5877000"/>
            <a:ext cx="939600" cy="21888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 flipH="1" flipV="1">
            <a:off x="6443280" y="6237360"/>
            <a:ext cx="723960" cy="2397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 flipH="1" flipV="1">
            <a:off x="5292720" y="6453360"/>
            <a:ext cx="1874880" cy="237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3"/>
          <p:cNvSpPr/>
          <p:nvPr/>
        </p:nvSpPr>
        <p:spPr>
          <a:xfrm>
            <a:off x="144360" y="94608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  <a:ea typeface="MS PGothic"/>
              </a:rPr>
              <a:t>Escribe doce f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6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71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24"/>
          <p:cNvSpPr/>
          <p:nvPr/>
        </p:nvSpPr>
        <p:spPr>
          <a:xfrm>
            <a:off x="83808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Los verbos como Gu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685800" y="205740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gu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c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er (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4038480" y="205740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pleasing,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gust/displease/up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ascinate/be fascin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interes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urt/be painful/cause s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Repaso: </a:t>
            </a:r>
            <a:r>
              <a:rPr b="0" lang="es-ES" sz="4000" spc="-1" strike="noStrike">
                <a:solidFill>
                  <a:srgbClr val="ff0000"/>
                </a:solidFill>
                <a:latin typeface="Franklin Gothic Book"/>
              </a:rPr>
              <a:t>Dol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3520" y="1752480"/>
            <a:ext cx="8305560" cy="1556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N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T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     +    singular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Le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57200" y="3933720"/>
            <a:ext cx="8305920" cy="1556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       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N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T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        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          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  <a:ea typeface="MS PGothic"/>
              </a:rPr>
              <a:t>+   plural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      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394920" y="152280"/>
            <a:ext cx="846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ER is conjugated just like the verb GU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nly 2 fo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oler is conjugated based on what</a:t>
            </a:r>
            <a:r>
              <a:rPr b="0" lang="ja-JP" sz="3200" spc="-1" strike="noStrike">
                <a:solidFill>
                  <a:srgbClr val="cc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 being 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-49680" y="2362320"/>
            <a:ext cx="807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s to one body part / sing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Due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s to more than one body part / pl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114300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2"/>
          <a:stretch/>
        </p:blipFill>
        <p:spPr>
          <a:xfrm>
            <a:off x="7467480" y="4267080"/>
            <a:ext cx="838440" cy="1704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3"/>
          <a:stretch/>
        </p:blipFill>
        <p:spPr>
          <a:xfrm>
            <a:off x="8229600" y="3962520"/>
            <a:ext cx="7621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9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04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Text Box 26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919080" y="3048120"/>
            <a:ext cx="7600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y arm hurts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he arm hurts me.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duele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l br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p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verb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8" descr="c:\Program Files\Microsoft Office\Clipart\standard\stddir1\bd05090_.wmf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1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2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27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ckwards</a:t>
            </a:r>
            <a:r>
              <a:rPr b="0" i="1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1002240" y="1981080"/>
            <a:ext cx="758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Who is hu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du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el br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What body part hu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1" descr="c:\Office2000\Clipart\Pub60Cor\na01069_.wmf"/>
          <p:cNvPicPr/>
          <p:nvPr/>
        </p:nvPicPr>
        <p:blipFill>
          <a:blip r:embed="rId21"/>
          <a:stretch/>
        </p:blipFill>
        <p:spPr>
          <a:xfrm>
            <a:off x="3657600" y="52578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4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55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Text Box 24"/>
          <p:cNvSpPr/>
          <p:nvPr/>
        </p:nvSpPr>
        <p:spPr>
          <a:xfrm>
            <a:off x="1466280" y="762120"/>
            <a:ext cx="617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hurt or in p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being affec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30"/>
          <p:cNvGrpSpPr/>
          <p:nvPr/>
        </p:nvGrpSpPr>
        <p:grpSpPr>
          <a:xfrm>
            <a:off x="457200" y="3505320"/>
            <a:ext cx="7846200" cy="1948680"/>
            <a:chOff x="457200" y="3505320"/>
            <a:chExt cx="7846200" cy="1948680"/>
          </a:xfrm>
        </p:grpSpPr>
        <p:sp>
          <p:nvSpPr>
            <p:cNvPr id="368" name="Text Box 27"/>
            <p:cNvSpPr/>
            <p:nvPr/>
          </p:nvSpPr>
          <p:spPr>
            <a:xfrm>
              <a:off x="457200" y="3530520"/>
              <a:ext cx="2484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Me- 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Te – y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Le – him/her You form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9"/>
            <p:cNvSpPr/>
            <p:nvPr/>
          </p:nvSpPr>
          <p:spPr>
            <a:xfrm>
              <a:off x="4567320" y="3505320"/>
              <a:ext cx="3736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Nos – 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Os – You guys - plural(infor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Les – Them, You guys (plura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26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71" name="Picture 1027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Object 102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029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030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031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032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Object 1025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034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035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Object 102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1037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82" name="Picture 1038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039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040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1041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042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043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044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45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046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047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 Box 1048"/>
          <p:cNvSpPr/>
          <p:nvPr/>
        </p:nvSpPr>
        <p:spPr>
          <a:xfrm>
            <a:off x="304920" y="5335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 or emphasi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Put the “personal a” in front of the name or pronoun that refers to the person in pai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053"/>
          <p:cNvSpPr/>
          <p:nvPr/>
        </p:nvSpPr>
        <p:spPr>
          <a:xfrm>
            <a:off x="351720" y="21240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54"/>
          <p:cNvSpPr/>
          <p:nvPr/>
        </p:nvSpPr>
        <p:spPr>
          <a:xfrm>
            <a:off x="4800600" y="20574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96" name="Picture 14" descr="C:\Program Files\Microsoft Office\Clipart\Powerpnt\argntinf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5" descr=""/>
            <p:cNvPicPr/>
            <p:nvPr/>
          </p:nvPicPr>
          <p:blipFill>
            <a:blip r:embed="rId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6" descr=""/>
            <p:cNvPicPr/>
            <p:nvPr/>
          </p:nvPicPr>
          <p:blipFill>
            <a:blip r:embed="rId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7" descr=""/>
            <p:cNvPicPr/>
            <p:nvPr/>
          </p:nvPicPr>
          <p:blipFill>
            <a:blip r:embed="rId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18" descr=""/>
            <p:cNvPicPr/>
            <p:nvPr/>
          </p:nvPicPr>
          <p:blipFill>
            <a:blip r:embed="rId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9" descr="C:\Program Files\Microsoft Office\Clipart\Powerpnt\cubaf.wmf"/>
            <p:cNvPicPr/>
            <p:nvPr/>
          </p:nvPicPr>
          <p:blipFill>
            <a:blip r:embed="rId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0" descr=""/>
            <p:cNvPicPr/>
            <p:nvPr/>
          </p:nvPicPr>
          <p:blipFill>
            <a:blip r:embed="rId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21" descr=""/>
            <p:cNvPicPr/>
            <p:nvPr/>
          </p:nvPicPr>
          <p:blipFill>
            <a:blip r:embed="rId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22" descr=""/>
            <p:cNvPicPr/>
            <p:nvPr/>
          </p:nvPicPr>
          <p:blipFill>
            <a:blip r:embed="rId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23" descr="C:\Program Files\Microsoft Office\Clipart\Powerpnt\spainf.wmf"/>
            <p:cNvPicPr/>
            <p:nvPr/>
          </p:nvPicPr>
          <p:blipFill>
            <a:blip r:embed="rId1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07" name="Picture 3" descr=""/>
            <p:cNvPicPr/>
            <p:nvPr/>
          </p:nvPicPr>
          <p:blipFill>
            <a:blip r:embed="rId1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Object 2" descr=""/>
            <p:cNvPicPr/>
            <p:nvPr/>
          </p:nvPicPr>
          <p:blipFill>
            <a:blip r:embed="rId1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" descr=""/>
            <p:cNvPicPr/>
            <p:nvPr/>
          </p:nvPicPr>
          <p:blipFill>
            <a:blip r:embed="rId1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6" descr=""/>
            <p:cNvPicPr/>
            <p:nvPr/>
          </p:nvPicPr>
          <p:blipFill>
            <a:blip r:embed="rId1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7" descr=""/>
            <p:cNvPicPr/>
            <p:nvPr/>
          </p:nvPicPr>
          <p:blipFill>
            <a:blip r:embed="rId1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8" descr=""/>
            <p:cNvPicPr/>
            <p:nvPr/>
          </p:nvPicPr>
          <p:blipFill>
            <a:blip r:embed="rId1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Object 3" descr=""/>
            <p:cNvPicPr/>
            <p:nvPr/>
          </p:nvPicPr>
          <p:blipFill>
            <a:blip r:embed="rId1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0" descr=""/>
            <p:cNvPicPr/>
            <p:nvPr/>
          </p:nvPicPr>
          <p:blipFill>
            <a:blip r:embed="rId1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1" descr=""/>
            <p:cNvPicPr/>
            <p:nvPr/>
          </p:nvPicPr>
          <p:blipFill>
            <a:blip r:embed="rId1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Object 4" descr=""/>
            <p:cNvPicPr/>
            <p:nvPr/>
          </p:nvPicPr>
          <p:blipFill>
            <a:blip r:embed="rId2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TextBox 23" descr=""/>
          <p:cNvPicPr/>
          <p:nvPr/>
        </p:nvPicPr>
        <p:blipFill>
          <a:blip r:embed="rId21"/>
          <a:stretch/>
        </p:blipFill>
        <p:spPr>
          <a:xfrm>
            <a:off x="628560" y="835200"/>
            <a:ext cx="2651040" cy="12254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4"/>
          <p:cNvSpPr/>
          <p:nvPr/>
        </p:nvSpPr>
        <p:spPr>
          <a:xfrm>
            <a:off x="0" y="2133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 (name or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onoun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5"/>
          <p:cNvSpPr/>
          <p:nvPr/>
        </p:nvSpPr>
        <p:spPr>
          <a:xfrm>
            <a:off x="2286000" y="21337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Object  + 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being aff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27"/>
          <p:cNvSpPr/>
          <p:nvPr/>
        </p:nvSpPr>
        <p:spPr>
          <a:xfrm>
            <a:off x="4724280" y="2133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uele (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29"/>
          <p:cNvSpPr/>
          <p:nvPr/>
        </p:nvSpPr>
        <p:spPr>
          <a:xfrm>
            <a:off x="64771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noun (sing/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ject or what body part is causing the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Box 30"/>
          <p:cNvSpPr/>
          <p:nvPr/>
        </p:nvSpPr>
        <p:spPr>
          <a:xfrm>
            <a:off x="38088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 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31"/>
          <p:cNvSpPr/>
          <p:nvPr/>
        </p:nvSpPr>
        <p:spPr>
          <a:xfrm>
            <a:off x="3124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32"/>
          <p:cNvSpPr/>
          <p:nvPr/>
        </p:nvSpPr>
        <p:spPr>
          <a:xfrm>
            <a:off x="487692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u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33"/>
          <p:cNvSpPr/>
          <p:nvPr/>
        </p:nvSpPr>
        <p:spPr>
          <a:xfrm>
            <a:off x="678168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s pi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34"/>
          <p:cNvSpPr/>
          <p:nvPr/>
        </p:nvSpPr>
        <p:spPr>
          <a:xfrm>
            <a:off x="685800" y="44197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legs hu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gs hurt M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OLER is conjugated based on what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 being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41"/>
          <p:cNvSpPr/>
          <p:nvPr/>
        </p:nvSpPr>
        <p:spPr>
          <a:xfrm>
            <a:off x="48769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¡Cuatro par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41"/>
          <p:cNvSpPr/>
          <p:nvPr/>
        </p:nvSpPr>
        <p:spPr>
          <a:xfrm>
            <a:off x="5740560" y="4600440"/>
            <a:ext cx="185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42"/>
          <p:cNvSpPr/>
          <p:nvPr/>
        </p:nvSpPr>
        <p:spPr>
          <a:xfrm>
            <a:off x="5896080" y="45226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43"/>
          <p:cNvSpPr/>
          <p:nvPr/>
        </p:nvSpPr>
        <p:spPr>
          <a:xfrm>
            <a:off x="5780160" y="45226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4:15:13Z</dcterms:created>
  <dc:creator>Thomas and Jennifer Duggan</dc:creator>
  <dc:description/>
  <dc:language>en-US</dc:language>
  <cp:lastModifiedBy>Nicole Fannoney</cp:lastModifiedBy>
  <cp:lastPrinted>2014-05-06T16:08:32Z</cp:lastPrinted>
  <dcterms:modified xsi:type="dcterms:W3CDTF">2016-05-04T12:18:17Z</dcterms:modified>
  <cp:revision>109</cp:revision>
  <dc:subject/>
  <dc:title>PowerPoint Presentation</dc:title>
</cp:coreProperties>
</file>